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E7D-CCF9-4E26-9D5A-6F6E69A1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D85-0969-4463-AE2D-02BB17FF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2E9-D2F4-42AF-9AB3-3C9F6292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AD2-08CF-490B-B796-F9D4F91E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17A-D6E7-4520-9BB8-1845BA21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612-9EF9-432E-AEC2-8959DF3A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1C7-99B2-489E-8897-1048BD12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173-8C34-4850-86D6-6A0D8C5F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D67-4D42-476B-901F-A85825E5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E9D-77EB-4FAD-A43E-855A28B1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CA2-47D3-4D43-A734-9C0173C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9AF-E08A-4FFD-9855-2ED0D8F8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06182-CC2D-44AC-BE79-9EE345988B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Congress is Organized to Make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1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. 374-38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ucuses: Informal Organiz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aucu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a group of members of Congress sharing some interest or characterist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out 300 caucu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cuses pressure for committee meetings and hearings and for votes on bill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cuses can be more effective than lobbyis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Staff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ersonal Staff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y work for the member, mainly providing constituent service, but help with legislation to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ommittee Staff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organize hearings, research and write legislation, target of lobbyi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taff Agenci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CRS, GAO, CBO provide specific information to Congr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merican Bicameral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The Hous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435 members, 2-year terms of offic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itiates all revenue bills, more influential on budge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House Rules Committe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imited debat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Sen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0 members, 6-year terms of off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ive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vice &amp; consent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ore influential on foreign affai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limited debates (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filibuster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Leadershi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Hou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Led by Speaker of the House—elected by House memb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esides over Hous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jor role in committee assignments and legisla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ssisted by majority leader and whip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en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mally lead by Vice Presid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lly lead by Majority Leader—chosen by party memb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sisted by whip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ust work with Minority lea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146160" y="585720"/>
            <a:ext cx="879300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ittees and Subcommittee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tanding Committe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subject matter committees that handle bills in different policy a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Joint Committe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a few subject-matter areas—membership drawn from House and Senat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onference Committe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resolve differences in House and Senate b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elect Committe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created for a specific purpose, such as the Watergate investig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mmittees at Wo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egisl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mittees work on the 11,000 bills every sess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ome hold hearings and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rk up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meeting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Legislative Oversigh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nitoring of the bureaucracy and its administration of policy through committee hearing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s publicity value of receiving credit for controlling spending has increase, so too has oversight grow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Oversight usually takes place after a catastroph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5"/>
          <p:cNvGrpSpPr/>
          <p:nvPr/>
        </p:nvGrpSpPr>
        <p:grpSpPr>
          <a:xfrm>
            <a:off x="685800" y="714240"/>
            <a:ext cx="8109000" cy="4935600"/>
            <a:chOff x="685800" y="714240"/>
            <a:chExt cx="8109000" cy="4935600"/>
          </a:xfrm>
        </p:grpSpPr>
        <p:sp>
          <p:nvSpPr>
            <p:cNvPr id="55" name="Rectangle 23"/>
            <p:cNvSpPr/>
            <p:nvPr/>
          </p:nvSpPr>
          <p:spPr>
            <a:xfrm>
              <a:off x="685800" y="714240"/>
              <a:ext cx="7696080" cy="487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56" name="Group 22"/>
            <p:cNvGrpSpPr/>
            <p:nvPr/>
          </p:nvGrpSpPr>
          <p:grpSpPr>
            <a:xfrm>
              <a:off x="685800" y="714240"/>
              <a:ext cx="8109000" cy="4935600"/>
              <a:chOff x="685800" y="714240"/>
              <a:chExt cx="8109000" cy="493560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714240"/>
                <a:ext cx="7696080" cy="90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" name="Group 21"/>
              <p:cNvGrpSpPr/>
              <p:nvPr/>
            </p:nvGrpSpPr>
            <p:grpSpPr>
              <a:xfrm>
                <a:off x="685800" y="1628640"/>
                <a:ext cx="8109000" cy="4021200"/>
                <a:chOff x="685800" y="1628640"/>
                <a:chExt cx="8109000" cy="4021200"/>
              </a:xfrm>
            </p:grpSpPr>
            <p:pic>
              <p:nvPicPr>
                <p:cNvPr id="59" name="Picture 11" descr=""/>
                <p:cNvPicPr/>
                <p:nvPr/>
              </p:nvPicPr>
              <p:blipFill>
                <a:blip r:embed="rId2"/>
                <a:srcRect l="0" t="0" r="0" b="510"/>
                <a:stretch/>
              </p:blipFill>
              <p:spPr>
                <a:xfrm>
                  <a:off x="685800" y="1628640"/>
                  <a:ext cx="2778120" cy="1892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73240" y="1881000"/>
                  <a:ext cx="2733840" cy="164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13" descr=""/>
                <p:cNvPicPr/>
                <p:nvPr/>
              </p:nvPicPr>
              <p:blipFill>
                <a:blip r:embed="rId4"/>
                <a:srcRect l="0" t="0" r="0" b="27660"/>
                <a:stretch/>
              </p:blipFill>
              <p:spPr>
                <a:xfrm>
                  <a:off x="5643720" y="1879560"/>
                  <a:ext cx="2738160" cy="164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Rectangle 16"/>
                <p:cNvSpPr/>
                <p:nvPr/>
              </p:nvSpPr>
              <p:spPr>
                <a:xfrm>
                  <a:off x="685800" y="1828800"/>
                  <a:ext cx="8093160" cy="90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pic>
              <p:nvPicPr>
                <p:cNvPr id="63" name="Picture 19" descr=""/>
                <p:cNvPicPr/>
                <p:nvPr/>
              </p:nvPicPr>
              <p:blipFill>
                <a:blip r:embed="rId5"/>
                <a:srcRect l="0" t="0" r="5035" b="0"/>
                <a:stretch/>
              </p:blipFill>
              <p:spPr>
                <a:xfrm>
                  <a:off x="4970520" y="3692520"/>
                  <a:ext cx="3411360" cy="1957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0" descr=""/>
                <p:cNvPicPr/>
                <p:nvPr/>
              </p:nvPicPr>
              <p:blipFill>
                <a:blip r:embed="rId6"/>
                <a:srcRect l="0" t="0" r="5026" b="0"/>
                <a:stretch/>
              </p:blipFill>
              <p:spPr>
                <a:xfrm>
                  <a:off x="5568840" y="3776760"/>
                  <a:ext cx="234000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18" descr=""/>
                <p:cNvPicPr/>
                <p:nvPr/>
              </p:nvPicPr>
              <p:blipFill>
                <a:blip r:embed="rId7"/>
                <a:srcRect l="0" t="0" r="0" b="2833"/>
                <a:stretch/>
              </p:blipFill>
              <p:spPr>
                <a:xfrm>
                  <a:off x="2900520" y="3684600"/>
                  <a:ext cx="2463480" cy="1957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Rectangle 15"/>
                <p:cNvSpPr/>
                <p:nvPr/>
              </p:nvSpPr>
              <p:spPr>
                <a:xfrm>
                  <a:off x="701640" y="3462480"/>
                  <a:ext cx="8093160" cy="28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pic>
              <p:nvPicPr>
                <p:cNvPr id="67" name="Picture 14" descr=""/>
                <p:cNvPicPr/>
                <p:nvPr/>
              </p:nvPicPr>
              <p:blipFill>
                <a:blip r:embed="rId8"/>
                <a:srcRect l="0" t="0" r="4645" b="0"/>
                <a:stretch/>
              </p:blipFill>
              <p:spPr>
                <a:xfrm>
                  <a:off x="687240" y="3489480"/>
                  <a:ext cx="2349720" cy="2160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tting on a Committe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bers want committee assignments that will help them get reelected, gain influence, and make polic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w members express their committee preferences to the party lead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ose who have supported their party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 leadership are favored in the selection proce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ties try to grant committee preferenc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tting Ahead on a Committe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ommittee Chai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 most important influencer of congressional agend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minant role in scheduling hearings, hiring staff, appointing subcommittees, and managing committee bills when they are brought before the full hou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st chairs selected according to seniority syst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mbers who have served on the committee the longest and whose party controlled Congress become chai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14:52:13Z</dcterms:created>
  <dc:creator>madisonk Madison</dc:creator>
  <dc:description/>
  <dc:language>en-US</dc:language>
  <cp:lastModifiedBy>madisonk Madison</cp:lastModifiedBy>
  <dcterms:modified xsi:type="dcterms:W3CDTF">2013-12-13T15:09:24Z</dcterms:modified>
  <cp:revision>3</cp:revision>
  <dc:subject/>
  <dc:title>How Congress Is Organized to Make Policy</dc:title>
</cp:coreProperties>
</file>